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816C-441D-4E9D-BB8A-D29CF79B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3B1-96F6-435F-B455-F43857CA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15C-3F44-41E7-96EF-B6D96666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EC1-D11D-4DE8-B952-BE1C8770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A43-49D9-4ACB-B078-7835C7EF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7E46-64B6-4258-9342-69C2F66A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495-2966-4120-9F84-392D7795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69B-390D-4F03-B849-1B1DAD82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D57-B4ED-4866-80DD-CA1F104D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3CE-A3F3-4366-A11A-3C2F0849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F0B-4903-4910-AC91-A975EF5E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E2D1-A514-4EAB-B542-E126D0BB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FA95-761F-4AF8-ADD5-758F6D37C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geu9Vem6hHGjkAGcxXNyoA;_ylu=X3oDMTBzb3JwbzQ3BHNlYwNzYwRjb2xvA2FjMgR2dGlkA00wMDFfODk-/SIG=1iqv6us6o/EXP=1202318558/**http%3A//images.search.yahoo.com/images/view%3Fback=http%253A%252F%252Fsearch.yahoo.com%252Fsearch%253Fei%253DUTF-8%2526p%253Dpictures%252Bof%252Bamerican%252Bmoney%2526vm%253Dr%26w=380%26h=285%26imgurl=www.istockphoto.com%252Ffile_thumbview_approve%252F455084%252F2%252Fistockphoto_455084_money_fan.jpg%26size=48.2%26name=istockphoto_455084_money_fan.jpg%26rcurl=http%253A%252F%252Fwww.istockphoto.com%252Fimageindex%252F455%252F0%252F455084%26rurl=http%253A%252F%252Fwww.istockphoto.com%252Fimageindex%252F455%252F0%252F455084%26p=american%2Bmoney%26type=jpeg%26no=3%26tt=79%252C55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newable Energy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mass is a renewable energy sou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Biomass is renewable it pollutes the 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3657600" cy="3360960"/>
          </a:xfrm>
          <a:prstGeom prst="rect">
            <a:avLst/>
          </a:prstGeom>
          <a:ln w="0">
            <a:noFill/>
          </a:ln>
        </p:spPr>
      </p:pic>
      <p:sp>
        <p:nvSpPr>
          <p:cNvPr id="44" name="Tree"/>
          <p:cNvSpPr/>
          <p:nvPr/>
        </p:nvSpPr>
        <p:spPr>
          <a:xfrm>
            <a:off x="1828800" y="2819520"/>
            <a:ext cx="1523880" cy="15811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50"/>
                            </p:stCondLst>
                            <p:childTnLst>
                              <p:par>
                                <p:cTn id="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650"/>
                            </p:stCondLst>
                            <p:childTnLst>
                              <p:par>
                                <p:cTn id="43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1650"/>
                            </p:stCondLst>
                            <p:childTnLst>
                              <p:par>
                                <p:cTn id="50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act on the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iomass provides 3% of the united states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es not depend on fossil fu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iomass can still pollute the air but not as much as fossil f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0" r="0" b="28848"/>
          <a:stretch/>
        </p:blipFill>
        <p:spPr>
          <a:xfrm>
            <a:off x="304920" y="1828800"/>
            <a:ext cx="4495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100"/>
                            </p:stCondLst>
                            <p:childTnLst>
                              <p:par>
                                <p:cTn id="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100"/>
                            </p:stCondLst>
                            <p:childTnLst>
                              <p:par>
                                <p:cTn id="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3600"/>
                            </p:stCondLst>
                            <p:childTnLst>
                              <p:par>
                                <p:cTn id="8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9800"/>
                            </p:stCondLst>
                            <p:childTnLst>
                              <p:par>
                                <p:cTn id="92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biomass is released carbon dioxide is released into the 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terials are very expen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www.istockphoto.com/file_thumbview_approve/455084/2/istockphoto_455084_money_f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3429000"/>
            <a:ext cx="3581280" cy="2678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7162920" y="4952880"/>
            <a:ext cx="685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$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76720" y="1676520"/>
            <a:ext cx="685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$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66680" y="1523880"/>
            <a:ext cx="685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$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4120" y="4876920"/>
            <a:ext cx="685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$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15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5:57:03Z</dcterms:created>
  <dc:creator>default</dc:creator>
  <dc:description/>
  <dc:language>en-US</dc:language>
  <cp:lastModifiedBy>default</cp:lastModifiedBy>
  <dcterms:modified xsi:type="dcterms:W3CDTF">2008-02-07T16:28:00Z</dcterms:modified>
  <cp:revision>7</cp:revision>
  <dc:subject/>
  <dc:title>Slide 1</dc:title>
</cp:coreProperties>
</file>